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4F11-FD9E-43EF-AE01-708E40AB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B958-3B4C-44F8-AEB2-7920CDC7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518468-31AE-443A-9D80-32088A18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E2AB2D-8A8B-413B-AE5D-FFECEF6D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7691F4-5187-4C09-A97E-0132FA53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88983-013B-495A-8303-1D189018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71E5A0-8B6D-47B2-927F-D13285E1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30E1F-2C4B-40F4-8DC6-457F9738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8831D5-D5CB-4757-8425-1BD95362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6E4A48-795C-4217-8601-FA2D08ED1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649D2-2FCF-40AA-8EDD-C439250E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8A65E8-A03C-4538-A6CD-3170F948F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7DE0-E704-44EF-ADEC-AA48E2BA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E411B-D5C9-4B4C-8826-768559FB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F548A-FF28-48BA-A246-88312A1D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3C9B5-38FA-4345-92AB-479515C3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2864DB-F864-4845-A766-2C86E7E4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A20E4-CFB8-4E27-AADC-C6BC5A64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8ABDA8-12D3-4D05-AF59-5EAAC63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EE75A-005D-4A4C-93DE-ABDAD88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376DB-D2FB-42B5-8072-77B98B95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79784-105E-4D06-BC94-7F8E41EE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E5C91-474D-4135-B781-692978C5A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E885-5AA6-4A0B-9597-4D3C8A2E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26496-C29A-4870-AB6F-CB1E9F02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89B01-C8FD-4695-B0B6-B0EA1C28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61D444-1E8D-4972-AF25-304614C37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3C60-BBF5-4D92-905A-CD6CD873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D4DFD-C984-4CBD-B6B9-82259F8C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23F792-CDD5-46E0-A517-FB3A876C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D5F14-7AC1-4044-A055-330C9133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0BDA-BA92-4C82-A6C0-75B9AB05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2AD43-CD8A-4440-8647-7380162A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B8E8F-E5D5-413B-B39F-898662B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E380-6105-40A0-A7D8-EA6522FC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9920A-91E9-44FC-B115-12655BC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5DFF01-5683-4531-B580-A9BFE296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6155D-8DA4-410D-BA66-DF7C899E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69E5D5-E69E-402F-B6AB-A7E1D1FA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1A1E0-5322-49B5-9301-B4432B0E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B72246-784A-4110-B5A7-DE121D19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F0D7B9-A310-434B-843E-10F3B809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E5682-8A27-4901-800A-772E91B0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34681E-9D66-412E-A86E-4675CF8F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AEFAE0-EE29-4D2B-B7E2-1C35965A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2529-0666-4E56-875B-EBCBC31B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280DC7-70A6-4EFE-AE0D-FB34EE0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6440A-5F1A-439A-9DB1-999896C2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1A07A-E4EC-4B07-84D7-29DACC79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CBFD18-4919-4CD1-953C-218D82BB0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681CCB-2496-45CD-9C08-7FC5FB22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836E-2001-487A-B03D-CE1D9288A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6190-833C-4F3F-8D87-0B97181D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1EBF-0DAF-4EE8-822E-CEFB5916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6DDB-11DF-40F3-9C9C-9293E7DC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6405-1C6A-4E53-B4C2-54035D95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E228-52A2-4C0C-8312-1C13F715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DEAE-8180-4AC1-98D8-FF2F28F0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4B2B-ECC6-4C95-97A4-767855916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1AC0B-B35C-4CDA-8143-40624EA9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4769-3345-4351-8E6E-488B0595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5E25-A3DA-4509-A85D-C627127D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9511F-3C85-4AA6-B9A6-780BC411F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7D663-773F-4112-8DD1-87FA6195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BF8B1-DACA-4A9E-9AC7-E8DC8841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FD07F-B42C-45CA-8816-E6003A46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8162-2710-441F-93B4-17CC580C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238E-FB93-466E-B76B-0B07C428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8C57B-1785-4D06-BC15-08406262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0851B-EB97-4DC7-A800-D8BA766F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7408-4252-4267-A728-8067D9AF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0CE61-26DE-42DE-A167-E2EA912C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76E6-E314-4DDD-BF52-90BDB4DB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F03D-C071-4392-A1C0-41343840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82A4-BC9E-497C-9AAC-FDB0D8B6B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5D2A-7249-4979-932D-DE62034AE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6C8B-66EF-431F-8780-870D6379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63EB4-494B-4CB2-B1AA-FFF03B65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6B2-2C2D-4197-9D8A-FA4BCCBC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E9223-FA8F-4C61-BF51-0D29DBB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F085-DF92-4D14-9E4F-2896594D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E6C75-8C0D-4198-B65B-D63C4C56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8E616-FF48-4353-9E43-1ECAC238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0D259-01D4-4624-ABD5-D56973A5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0DE2C-F4BE-4336-8779-8F997C04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5E5C8-F239-4A19-9108-AFFF1644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F76E9-7281-4E69-B288-0B25C377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8307-C9CE-4F9D-91D2-295AB818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AEBD7-6C1F-4562-97EA-7608E820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458-02EC-4A75-A547-0388881F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629DC-CF51-4AA3-81C7-01C91AF9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438F3-873C-46EA-B5C8-C1CFD257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F589F-D0FA-4B00-BA48-F6FE18C3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0E870-0ED3-48BB-AE96-178EDB9D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B8615-5F20-455D-981A-5CAE517E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19D76-F9CC-4E11-B281-B0594294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94453-212B-4CAD-A5D4-A5E0B7A8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6278B-2BEE-4E1C-B5E5-0B099CD9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39686-7E3A-4FDD-8C16-FD366E74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798C-7722-4C78-9073-2D9805C08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7EB-A8FD-4BCF-8811-5CDFDA69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81812-A295-4B02-B40F-C842CF68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2B050-96DE-4667-B3F8-5D6A18A71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9295-B0C0-495F-9D18-655D0927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3E279-63EC-4116-A624-C9F46F6D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919E9-30A8-4A56-9AFB-D2A9A0DD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4F480-E0A0-489E-8AAE-FE218A132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3E3E5-A9F0-452B-90F4-0632B512B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6D51E-7C33-4B5B-9283-318738E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68F73-EC18-437B-9A80-49EA08AD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018AE-C7B3-4817-9D3B-A2528CD9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8C56-B43E-4089-8E49-A821EF7A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1E72B-B0D8-485A-8541-929A73E1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18E61-ED18-46BD-8895-03BC5B0D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DE1ED-81FD-4B30-A7C6-5B3CAA96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943D8-98B0-4AAB-8E4A-7FC0B7EA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2E80C-3368-4106-95E2-6B1CE260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6F450-0635-435F-B86A-9EBC1D61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24243C-FCAF-4B3F-916E-1794BA9A7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201FB-6074-4D41-9419-429CA7B8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1E12E-2A3D-40CD-B73B-0CFCC43E2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DEB2-B2B1-4FE6-8C7A-BDD1085D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FA9-F295-4A15-B6C3-126749C9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786B9-519C-441D-8DDC-001E471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2E1FEC-659F-4B2A-9462-19399327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913CD-98FD-4E08-B131-714C585D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126DC-5080-4096-8C1C-AD6F71F95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E120D-BC58-4AA8-BAC1-4924514D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794BC-2B2C-452A-A073-477BD4A8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34581-1C77-4066-BB9C-9F675FC8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5670-0879-43C8-8BD3-53E15CA2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166D9-921B-4C74-8B79-B5C2FC4A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9D64A-78BC-41C0-8DFE-811BE2E6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7206-6EBD-4929-BBC5-7472DAF91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C5BF8-C712-49B4-8023-64DE4A2F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E0B71C-FB88-4E12-9446-0297A820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D528-2DD8-40E3-8BFD-5E1ADBC9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A6718-6948-41B8-9913-D100CBF3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C7C30-DD96-4143-B18D-1C997A4B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78883-173A-4A17-BE5B-442712C0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D43235-03B7-416E-B3D7-1AD65BBCC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B6071-CA96-4707-91B9-7638C91D6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BAF1B3-AB94-442D-8EB2-F598B388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7796E-34F7-41FD-8D4E-9739A216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5C58-7F3A-4A60-A015-D9E8061D6D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A9DC-5005-4DAA-8730-BE697C80DC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0407-F040-45A4-80ED-B64B6DA561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42D6-FB8E-4C93-8D1B-BF4F33D933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E1D96-5527-4196-9213-F2C6010427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6A13-88C6-484E-A23C-B5BE8171E6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C602-6E22-4764-B731-A967B427E6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A531-88CF-4F8D-958B-D7DFBE1D4B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C31C-345B-44EC-A02D-DFEB2BC92A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7721-80F3-4F65-8F48-4845C28168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AB89-AA36-411D-935C-18190EE8CC8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181C-F7A0-4D94-8615-F3340BDBC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Content Placeholder 4" descr="The_Thinker.jpg"/>
          <p:cNvPicPr/>
          <p:nvPr/>
        </p:nvPicPr>
        <p:blipFill>
          <a:blip r:embed="rId1"/>
          <a:stretch/>
        </p:blipFill>
        <p:spPr>
          <a:xfrm>
            <a:off x="3124080" y="2286000"/>
            <a:ext cx="2797200" cy="4572000"/>
          </a:xfrm>
          <a:prstGeom prst="rect">
            <a:avLst/>
          </a:prstGeom>
          <a:ln w="0">
            <a:noFill/>
          </a:ln>
        </p:spPr>
      </p:pic>
      <p:sp>
        <p:nvSpPr>
          <p:cNvPr id="608" name="Cloud Callout 5"/>
          <p:cNvSpPr/>
          <p:nvPr/>
        </p:nvSpPr>
        <p:spPr>
          <a:xfrm>
            <a:off x="4495680" y="1143000"/>
            <a:ext cx="3810240" cy="1523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Cloud Callout 6"/>
          <p:cNvSpPr/>
          <p:nvPr/>
        </p:nvSpPr>
        <p:spPr>
          <a:xfrm rot="10800000">
            <a:off x="228240" y="3276720"/>
            <a:ext cx="3886200" cy="1676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TextBox 7"/>
          <p:cNvSpPr/>
          <p:nvPr/>
        </p:nvSpPr>
        <p:spPr>
          <a:xfrm>
            <a:off x="5105520" y="160020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 h a t  I s   I t 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TextBox 8"/>
          <p:cNvSpPr/>
          <p:nvPr/>
        </p:nvSpPr>
        <p:spPr>
          <a:xfrm>
            <a:off x="609480" y="403848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 h y  I s  I t  I m p o r t a n t ?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at is Critical Thinking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hy is Critical Thinking Important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…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pproaches all content explicitly a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takes thinking apar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weaves new thinking into old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assesse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applies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14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is thinking about thinking while thinking in order to make thinking better…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ritical Think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akes thinking better by making it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clear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vagu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accurate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questionabl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relevant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meaningless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deep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superficial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broad …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isolated/stand alone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  <a:p>
            <a:pPr lvl="1" marL="531000" indent="-264600">
              <a:spcBef>
                <a:spcPts val="64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More effective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646b86"/>
                </a:solidFill>
                <a:latin typeface="Georgia"/>
              </a:rPr>
              <a:t>     less impractical</a:t>
            </a:r>
            <a:endParaRPr b="0" lang="en-US" sz="2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John Henry Newman, 185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 man may hear a thousand lectures, and read a thousand volumes, and be at the end of the process very much where he was, as regards knowledge.  </a:t>
            </a:r>
            <a:r>
              <a:rPr b="0" lang="en-US" sz="2700" spc="-1" strike="noStrike">
                <a:solidFill>
                  <a:srgbClr val="595959"/>
                </a:solidFill>
                <a:latin typeface="Georgia"/>
              </a:rPr>
              <a:t>Something more than merely admitting it (information) in a negative way into the mind is necessary, if it is to remain there. 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 must not be passively received, but actually and actively entered into, embraced, mastered. </a:t>
            </a:r>
            <a:r>
              <a:rPr b="0" lang="en-US" sz="2700" spc="-1" strike="noStrike">
                <a:solidFill>
                  <a:srgbClr val="595959"/>
                </a:solidFill>
                <a:latin typeface="Georgia"/>
              </a:rPr>
              <a:t>The mind must go half-way to meet what comes to it from without.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Content is Thinking: </a:t>
            </a:r>
            <a:br>
              <a:rPr sz="3000"/>
            </a:br>
            <a:r>
              <a:rPr b="0" lang="en-US" sz="3000" spc="-1" strike="noStrike">
                <a:solidFill>
                  <a:srgbClr val="7b9899"/>
                </a:solidFill>
                <a:latin typeface="Georgia"/>
              </a:rPr>
              <a:t>Thinking is Content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content “lives” in the form of think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hose who can “think” through the content, have i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ll content “dies” when one tries to learn it without thinking it through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hrough thinking can students “take possession” of content &amp; make it thei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Only to the extent that a student asks genuine questions and seeks answers to them, is a student taking content seriously and thinking it through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orks Cit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Georgia"/>
              </a:rPr>
              <a:t>Critical Thinking: Basic Theory &amp; Instructional Structures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. Dillon Beach, CA: The Foundation for Critical Thinking. 1999. Prin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14:28:37Z</dcterms:created>
  <dc:creator>bguenther</dc:creator>
  <dc:description/>
  <dc:language>en-US</dc:language>
  <cp:lastModifiedBy>EndUser</cp:lastModifiedBy>
  <dcterms:modified xsi:type="dcterms:W3CDTF">2010-04-11T18:06:59Z</dcterms:modified>
  <cp:revision>13</cp:revision>
  <dc:subject/>
  <dc:title>Critical Thinking</dc:title>
</cp:coreProperties>
</file>